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53D-0E26-455B-A96B-F15143A1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EE3-C7BA-4C45-9311-BD538901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9F4-D1E5-48CD-836A-5B162CB4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8B9-5757-4840-BB54-7659C2C9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B38-44BD-4CA8-AFB3-A0B32348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53D-90FA-47A2-AE0A-300799A1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F98-34F2-4312-813C-E677DE0D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720-E515-45ED-BBDD-474D045C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769-949C-44FD-BDB4-0F9D5FE8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C4A-89DC-4BAB-B8E4-1CE67BC5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E1F-1551-4EF5-B87A-0D63FFC8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033-1F55-487E-8B61-BA158D84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B7DA-89EA-469B-B58F-2846758F9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Basics of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ogistic Regres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486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5943600"/>
            <a:ext cx="81532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925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1:55:24Z</dcterms:modified>
  <cp:revision>43</cp:revision>
  <dc:subject/>
  <dc:title>PowerPoint Presentation</dc:title>
</cp:coreProperties>
</file>